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applause.wav" ContentType="audio/x-wav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A4E6-D649-4F60-B54B-7F4D9F38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364C-7B75-4C51-8AB5-554E76D5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833-6839-4CDE-8EC1-50D6CE6F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D7D1-1BB5-4AE2-BE95-F6F01BF2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2F9A-1084-4917-B6C2-C621FD33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E9DB-2D1B-423A-A163-68EFCED3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14AF-5BF1-4C14-94AE-A647CA2E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A572-3713-45A2-B8B3-76CFD54A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2F01-CBC3-4238-B3FE-571F5A2F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A3D3-622D-48FD-BC41-2A37508F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C449-4D21-4F7B-8656-521E402F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4587-D703-47F2-8549-E3A72FE9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5D8F-B14A-456D-877D-6B7A54D7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FC47-8507-4928-B98D-879A9336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4124-D94F-4E5D-8DBE-CCB2C424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EA32-6CF8-4377-BCAF-CCF3EF5D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A532-151C-4A25-B473-EAE446F9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A5CA6-2C84-43D4-B31D-5560188F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ACBED-37CC-4F8C-AF7B-CFAA49BA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2F0758-0498-47ED-B0C9-E5D0AA98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556816-79E2-4649-B560-777F432C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B456D-2C97-465D-9D36-C8C35C49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F775-66E2-4540-ACE0-99227F75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35227-AE39-4314-A64B-B36DD8A1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691D3-8B23-4E31-B459-0CE5023C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D4D50-9957-4FDE-84AF-A9374A02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2DCC4-BFEC-4EA7-AA28-F77FB295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37A97-E04C-4742-9795-D34C1D78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B9556-5EDE-45E6-A587-E16FAF72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79CE27-8E0D-4512-9036-1888A886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DCF85-C806-4CCA-B82C-2C176934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B5F3C-930D-4BDB-A84F-1A455CD8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1BBD3-EE22-4CFB-A61C-6EEC6655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B2A6-68F6-4769-AF20-E263485F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06AC0-C838-43B5-A247-6010BF6E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B8173-0046-4704-8423-FAFABB32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473F7-2AD9-4B8B-BA33-05B456DC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E847F-7F2D-49DC-8E58-AA8141E6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7EC94-9ACF-4801-A3D5-C5627BE7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E299A-62DD-4CE0-84AE-470042F7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B01F8-FCF0-461B-9305-0A17B9AA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451D1-E2AE-4A4C-A2D5-C4E9D512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5FFA6-C01F-40DB-BD38-147F0D54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88C85-BCE9-40BA-A066-982821F9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43A0-6536-4EE4-8AF7-0A238C20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BF88A-DCE2-4ED8-9308-CEE7DA5C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F4304-E635-4538-B3AC-E1662CBB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42939-AF8E-490E-97DC-7EF1EE33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39593-1C44-466A-9D5C-02A4BBE8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02EE7-6A46-4349-8C93-1CA3CC6A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2E3EE-7C5A-47B7-9D0E-73FEF1D4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6A0A4-7F89-4AA0-A797-7E5130F8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5D346-C05F-4F35-8B3C-435CFD21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15ED8-54B8-4885-93AE-19C49E32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35994-170B-4C9C-BBA0-25D65C98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DF78-B684-46E4-AA39-4D58B50A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2421E-9353-4356-9405-5D131D26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04FAA-459C-46AF-8454-57192580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A953C-98CB-4036-9E16-B852B921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17683-1EEE-43B6-B632-CF532CF1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331F5-6512-4BE2-B7F0-756CD986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FCC3F-B937-405F-B681-71FC329A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8B3B8-8AD5-43F5-B29C-A4D7CE55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D07A0-1572-482D-819A-055C12C5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105E2-FD5F-460C-A8C4-50C4284A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1D0E1-D798-4D97-9AEA-1DBBC467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4BB1-44C5-4379-8493-A0462627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A1441-E8B0-494D-80B1-33A59EFD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FEBBE-0EC5-48DB-8D7D-2EF0E770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E3C53-C139-4C4F-9DDC-E23C8629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431-ABE5-4055-9A67-F8A18DA7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BEA5-175D-48CF-9460-5E9740CA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ABED-AF77-4BEA-9A6B-572EF8683F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15A6-01BD-4B01-B241-2B01EB69C08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8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F141-3C43-4063-B36F-2241DED6B79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10FC-110E-4388-8CBC-05FBD5DE94B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FD32-7D0A-447A-80AE-20A0CD623C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DD5F-3910-4CA5-AA99-E93027E1CA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Landforms &amp; Peninsul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ssia’s largest peninsula is the Kamchatk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ssia has many landforms including the Ural mountains and the Siberian pl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6000">
    <p:dissolve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mate Introdu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horz"/>
    <p:sndAc>
      <p:stSnd>
        <p:snd r:embed="rId3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mate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limates of Russia are Steppe, Humid continental, Subarctic and Tund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nual precipitation is 2.9 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cord high temperature of Russia is 98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cord low temperature is -44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nnual Snowfal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160 to 200 days of snow annual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457200" y="2211480"/>
            <a:ext cx="8381880" cy="4646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3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Unique Featur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iga large evergreen forests that are in Siberia. Mostly found in humid subtropic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055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afrost not even hardy evergreens can grow there. Permanently  frozen layers of soil. Covers 40% of Rus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cover dir="r"/>
    <p:sndAc>
      <p:stSnd>
        <p:snd r:embed="rId1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Stencil"/>
              </a:rPr>
              <a:t>CREDI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ten By: Anthony Li &amp; Alexander Cox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lustrated By: Anthony Li &amp; Alexa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cover dir="r"/>
    <p:sndAc>
      <p:stSnd>
        <p:snd r:embed="rId1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57:39Z</dcterms:created>
  <dc:creator> </dc:creator>
  <dc:description/>
  <dc:language>en-US</dc:language>
  <cp:lastModifiedBy> </cp:lastModifiedBy>
  <dcterms:modified xsi:type="dcterms:W3CDTF">2010-12-20T18:20:03Z</dcterms:modified>
  <cp:revision>7</cp:revision>
  <dc:subject/>
  <dc:title> Landforms &amp; Peninsula</dc:title>
</cp:coreProperties>
</file>